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BCB-27A0-4164-B757-C81C09CC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1AA-B9D6-4069-AC07-D137722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F74-514F-44E4-8595-FFBB8494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730-A646-42F6-BE97-87682D7F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4FA-52B3-4D9F-9BCB-3EB86D92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08A-5601-4BC2-8E7C-87241D8E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332-37AE-4936-99E5-A6154EDC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7136-9BF4-4A2B-ACB2-16F6BC56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0325-48A1-41A9-9909-37A188B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083E-96B7-4FB5-88E2-E1E100D6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41A-4761-422C-932C-B7B36D7B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C08-6F6B-4128-ACB5-BE0CD0E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C5C-460B-4F82-8263-113BA7A8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3F4-7BD8-4F86-BA0A-78AE7E7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BD44-CA91-41D1-AF66-902ADA94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E776-239B-4CEA-A3D0-674E9FFC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A45-8020-4FAA-8E56-2D793F44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E3F-E719-4656-BB8A-7847A882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13E-044B-44B9-B153-A8EFE6C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C16-ACD9-4F63-A919-83ADDC4A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E0A-F1E7-4296-AD5E-244B0AA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D1A-5FAC-46B8-B098-1CCC7FC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356-6492-455E-AAB0-C9E38DB9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5FB-9EC3-46E1-8694-4C1449F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39F-3D95-427B-9AE0-1511C66512A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3946-A7B4-47EF-A1D8-D127E77DC86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040" y="4114440"/>
            <a:ext cx="6553080" cy="1981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068ac"/>
                </a:solidFill>
                <a:uFillTx/>
                <a:latin typeface="Abadi MT Condensed Extra Bold"/>
              </a:rPr>
              <a:t>By</a:t>
            </a:r>
            <a:r>
              <a:rPr b="1" i="1" lang="en-US" sz="3200" spc="-1" strike="noStrike" u="sng">
                <a:solidFill>
                  <a:srgbClr val="0200ff"/>
                </a:solidFill>
                <a:uFillTx/>
                <a:latin typeface="Abadi MT Condensed Extra Bold"/>
              </a:rPr>
              <a:t>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badi MT Condensed Extra Bold"/>
                <a:ea typeface="华文楷体"/>
              </a:rPr>
              <a:t>Isaiah Col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80"/>
                </a:solidFill>
                <a:uFillTx/>
                <a:latin typeface="Abadi MT Condensed Extra Bold"/>
                <a:ea typeface="华文楷体"/>
              </a:rPr>
              <a:t>Isabel Mir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0ff"/>
                </a:solidFill>
                <a:uFillTx/>
                <a:latin typeface="Arial"/>
              </a:rPr>
              <a:t>Harsh Patel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662280" y="3733920"/>
            <a:ext cx="14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networkguid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f9e1"/>
                </a:solidFill>
                <a:uFillTx/>
                <a:latin typeface="Arial"/>
              </a:rPr>
              <a:t>What is A Hurric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3d3"/>
                </a:solidFill>
                <a:uFillTx/>
                <a:latin typeface="Abadi MT Condensed Extra Bold"/>
                <a:ea typeface="#헤드라인A"/>
              </a:rPr>
              <a:t>Warm and moist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39"/>
                </a:solidFill>
                <a:uFillTx/>
                <a:latin typeface="Abadi MT Condensed Extra Bold"/>
                <a:ea typeface="#헤드라인A"/>
              </a:rPr>
              <a:t>Strong winds rotating counterclock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badi MT Condensed Extra Bold"/>
                <a:ea typeface="#헤드라인A"/>
              </a:rPr>
              <a:t>A huge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1904400"/>
            <a:ext cx="4287600" cy="3979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43000" y="59436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rfersvillag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451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381880" cy="1524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810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images.paraorkut.com/img/clipart/images/g/green_star-847.g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40" y="640404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000-000-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38360" y="636588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HBN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057400"/>
            <a:ext cx="3047760" cy="459720"/>
          </a:xfrm>
          <a:prstGeom prst="rect">
            <a:avLst/>
          </a:prstGeom>
          <a:solidFill>
            <a:srgbClr val="2ce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800-440-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9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a hurricane</a:t>
            </a:r>
            <a:r>
              <a:rPr b="0" lang="en-US" sz="4000" spc="-1" strike="noStrike">
                <a:solidFill>
                  <a:srgbClr val="ff000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00ff"/>
                </a:solidFill>
                <a:latin typeface="Arial"/>
              </a:rPr>
              <a:t>n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00600" y="19051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0ff"/>
                </a:solidFill>
                <a:latin typeface="Abadi MT Condensed Extra Bold"/>
              </a:rPr>
              <a:t>A hurricane needs 80 degree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</a:rPr>
              <a:t>Fierce wi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badi MT Condensed Extra Bold"/>
              </a:rPr>
              <a:t>Spiraling winds at 200 miles a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876920" cy="4038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7760" y="6248520"/>
            <a:ext cx="188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globalneighbourhood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merican Typewriter"/>
              </a:rPr>
              <a:t>	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merican Typewriter"/>
              </a:rPr>
              <a:t>Safet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merican Typewriter"/>
              </a:rPr>
              <a:t>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92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Britannic Bold"/>
              </a:rPr>
              <a:t>Should have first aid kit, food, water, battery, &amp; radio</a:t>
            </a:r>
            <a:r>
              <a:rPr b="0" lang="en-US" sz="2400" spc="-1" strike="noStrike">
                <a:solidFill>
                  <a:srgbClr val="00ff00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Britannic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ritannic Bold"/>
              </a:rPr>
              <a:t>Keep cash &amp; clothes han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Britannic Bold"/>
              </a:rPr>
              <a:t>make sure car is filled with gasoline</a:t>
            </a:r>
            <a:r>
              <a:rPr b="0" lang="en-US" sz="2000" spc="-1" strike="noStrike">
                <a:solidFill>
                  <a:srgbClr val="008000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Britannic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451"/>
              </a:spcBef>
              <a:buClr>
                <a:srgbClr val="4068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Britannic Bold"/>
              </a:rPr>
              <a:t>Stay on higher grounds if fl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itannic Bold"/>
              </a:rPr>
              <a:t>Evacuate area , move to lower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35520" y="3497400"/>
            <a:ext cx="19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609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38680" y="5638680"/>
            <a:ext cx="328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underground.com/blog/Patrap/archive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360" y="5867280"/>
            <a:ext cx="21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42explore.com/hurrican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48280" y="152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for Sunburst Bold"/>
              </a:rPr>
              <a:t>Weather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056360" cy="5105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69560" y="5867280"/>
            <a:ext cx="11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ewscatche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	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E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e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s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o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H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u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r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r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i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n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4"/>
                </a:solidFill>
                <a:latin typeface="Arial for Sunburst Bold"/>
              </a:rPr>
              <a:t>Can Da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9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c00"/>
                </a:solidFill>
                <a:uFillTx/>
                <a:latin typeface="Arial for Sunburst Bold"/>
              </a:rPr>
              <a:t>Trees, houses, buildings, a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09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3ff"/>
                </a:solidFill>
                <a:uFillTx/>
                <a:latin typeface="Arial for Sunburst Bold"/>
              </a:rPr>
              <a:t>Injur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Cause Flo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008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900ff"/>
                </a:solidFill>
                <a:uFillTx/>
                <a:latin typeface="Arial for Sunburst Bold"/>
              </a:rPr>
              <a:t>May cause Oil spi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1680" y="2490840"/>
            <a:ext cx="3924000" cy="2789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51040" y="533412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ilymail.co.u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07200" y="58672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weatherwizkids.com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2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7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2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ff00"/>
                </a:solidFill>
                <a:latin typeface="Copperplate Gothic Light"/>
              </a:rPr>
              <a:t>Maps </a:t>
            </a:r>
            <a:r>
              <a:rPr b="0" lang="en-US" sz="4400" spc="-1" strike="noStrike">
                <a:solidFill>
                  <a:srgbClr val="0000ff"/>
                </a:solidFill>
                <a:latin typeface="Copperplate Gothic Light"/>
              </a:rPr>
              <a:t>and</a:t>
            </a:r>
            <a:r>
              <a:rPr b="0" lang="en-US" sz="4400" spc="-1" strike="noStrike">
                <a:solidFill>
                  <a:srgbClr val="ff0000"/>
                </a:solidFill>
                <a:latin typeface="Copperplate Gothic Light"/>
              </a:rPr>
              <a:t> d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649680" y="2057040"/>
            <a:ext cx="549432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38aff"/>
                </a:solidFill>
                <a:uFillTx/>
                <a:latin typeface="Arial for Sunburst Bold"/>
              </a:rPr>
              <a:t>Happen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for Sunburst Bold"/>
              </a:rPr>
              <a:t>9:00</a:t>
            </a:r>
            <a:r>
              <a:rPr b="0" lang="en-US" sz="2000" spc="-1" strike="noStrike" u="sng">
                <a:solidFill>
                  <a:srgbClr val="238aff"/>
                </a:solidFill>
                <a:uFillTx/>
                <a:latin typeface="Arial for Sunburst Bold"/>
              </a:rPr>
              <a:t>a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 for Sunburst Bold"/>
              </a:rPr>
              <a:t>June 30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most </a:t>
            </a:r>
            <a:r>
              <a:rPr b="0" lang="en-US" sz="2000" spc="-1" strike="noStrike" u="sng">
                <a:solidFill>
                  <a:srgbClr val="e6ff77"/>
                </a:solidFill>
                <a:uFillTx/>
                <a:latin typeface="Arial for Sunburst Bold"/>
              </a:rPr>
              <a:t>destructiv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 in </a:t>
            </a:r>
            <a:r>
              <a:rPr b="0" lang="en-US" sz="2000" spc="-1" strike="noStrike" u="sng">
                <a:solidFill>
                  <a:srgbClr val="4068ac"/>
                </a:solidFill>
                <a:uFillTx/>
                <a:latin typeface="Arial for Sunburst Bold"/>
              </a:rPr>
              <a:t>Florida</a:t>
            </a:r>
            <a:r>
              <a:rPr b="0" lang="en-US" sz="2000" spc="-1" strike="noStrike" u="sng">
                <a:solidFill>
                  <a:srgbClr val="4068ac"/>
                </a:solidFill>
                <a:uFillTx/>
                <a:latin typeface="Arial for Sunburs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 for Sunburst Bold"/>
              </a:rPr>
              <a:t>Lasted for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for Sunburst Bold"/>
              </a:rPr>
              <a:t>about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 for Sunburst Bold"/>
              </a:rPr>
              <a:t> a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for Sunburst Bold"/>
              </a:rPr>
              <a:t>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3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35040" indent="-533520">
              <a:lnSpc>
                <a:spcPct val="100000"/>
              </a:lnSpc>
              <a:spcBef>
                <a:spcPts val="601"/>
              </a:spcBef>
              <a:buClr>
                <a:srgbClr val="ff008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3ff"/>
                </a:solidFill>
                <a:uFillTx/>
                <a:latin typeface="Arial for Sunburst Bold"/>
              </a:rPr>
              <a:t>Can cause lots of damage and fl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3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72000" cy="364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0320" y="5616720"/>
            <a:ext cx="250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aaymca.com/search/hurric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960" y="6062760"/>
            <a:ext cx="323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eatherwizkids.com/weather-hurrican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4400" spc="-1" strike="noStrike" u="sng">
                <a:solidFill>
                  <a:srgbClr val="ff0084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s</a:t>
            </a:r>
            <a:r>
              <a:rPr b="1" i="1" lang="en-US" sz="4400" spc="-1" strike="noStrike" u="sng">
                <a:solidFill>
                  <a:srgbClr val="e6ff00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09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ac"/>
                </a:solidFill>
                <a:uFillTx/>
                <a:latin typeface="Arial for Sunburst Bold"/>
              </a:rPr>
              <a:t>The eye wall is the most distruct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9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 for Sunburst Bold"/>
              </a:rPr>
              <a:t>Can last over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Can go 600 miles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 for Sunburst Bold"/>
              </a:rPr>
              <a:t> </a:t>
            </a: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71680" y="2590920"/>
            <a:ext cx="3924000" cy="2590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5440" y="5423040"/>
            <a:ext cx="64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asa.go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2120" y="57913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weatherwizkids.com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2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6:48Z</dcterms:created>
  <dc:creator>D83  User</dc:creator>
  <dc:description/>
  <dc:language>en-US</dc:language>
  <cp:lastModifiedBy>D83  User</cp:lastModifiedBy>
  <dcterms:modified xsi:type="dcterms:W3CDTF">2011-03-21T18:41:54Z</dcterms:modified>
  <cp:revision>30</cp:revision>
  <dc:subject/>
  <dc:title>PowerPoint Presentation</dc:title>
</cp:coreProperties>
</file>